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1.wmf" ContentType="image/x-wmf"/>
  <Override PartName="/ppt/media/image9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5A22-7E9B-4F94-9959-2DB059DD9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F54D-0055-4E27-8D68-8DA7E1C30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B3D4-440F-4C86-BC20-C467ABB29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A210-AF89-48F9-96DF-2AC8CE9F9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B503-D1AC-4591-B325-F1F2C305C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E2C8-C283-4853-819A-4336AB6F5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89B6-4E3F-4D9C-BCBC-8C76A8BC7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6D38-A17B-4E4E-BC82-6C8D0CA6B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7E23-D462-478E-BD48-CE696BBCF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3F9B-051C-4872-A785-BD24F2B89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1DF5-F562-472B-AFEE-B5F8821F0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435F-3AF5-4CA5-91E5-48E2BECB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F4523-5468-4B97-B6F9-F942366756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cript MT Bold"/>
              </a:rPr>
              <a:t>Spanish Conquistadors and pre-Columbian civilizatio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Matt O’Halloran and Zach Abruzz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09480" y="3200400"/>
            <a:ext cx="1140120" cy="1219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467480" y="3200400"/>
            <a:ext cx="1278000" cy="1365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2971800" y="1828800"/>
            <a:ext cx="2986200" cy="1979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52578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umbus and Conquistad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05320" y="5181480"/>
            <a:ext cx="121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410080" y="5181480"/>
            <a:ext cx="18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181480" y="51814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ztecs, Mayas, and In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path" presetID="1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52 0 L 0.089 -0.04933 L 0.125 0 L 0.177 0 L 0.177 0.06933 L 0.213 0.11867 L 0.177 0.16667 L 0.177 0.236 L 0.125 0.236 L 0.089 0.284 L 0.052 0.236 L 0 0.236 L 0 0.16667 L -0.037 0.11867 L 0 0.06933 L 0 0 Z">
                                      <p:cBhvr>
                                        <p:cTn id="11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5.2 Identify the three major pre-Columbian civilizations that existed in Central and South America (Maya, Aztec, and Inca) and their locations. Describe their political structures, religious practices, and use of slav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5.4 Explain why the Aztec and Inca civilizations declined in the 16th centu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A. the encounters between Cortez and Montezu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B. the encounters between Pizarro and the In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C. the goals of the Spanish conquista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D. the effects of European diseases, particularly smallpox, throughout the Western hemisphe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362320" y="228600"/>
            <a:ext cx="3771720" cy="12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370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he Standards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09480" y="3809880"/>
            <a:ext cx="4496040" cy="29847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zte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ztecs were polytheistic which means they believe in many go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y lived in central Mexico, the valley of Mexico which is home to Tenochtitlan their capi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nochtitlan was built in the middle of a lake on a series of isl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y bullied other tribes into giving them money and people for human sacrifice and slaver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y were brought down by small po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2209680" y="4724280"/>
            <a:ext cx="1600200" cy="14097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95880" y="609480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oup3pas.wikispaces.co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5562720" y="3352680"/>
            <a:ext cx="3047760" cy="26845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762120" y="4495680"/>
            <a:ext cx="251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Conquistad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y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ved on Mexico coast on the Yucatan Penins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had many major cities which made it hard for them to be inva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had slaves, who could earn freed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were also polytheisti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038480" y="3276720"/>
            <a:ext cx="4229280" cy="32288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032080" y="649044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ishakti.or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3581280"/>
            <a:ext cx="2514600" cy="2362320"/>
          </a:xfrm>
          <a:prstGeom prst="noSmoking">
            <a:avLst>
              <a:gd name="adj" fmla="val 12500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In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They lived in South America, mainly on the Andes Mts. in Per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The capital was Cuz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They were also polytheisti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No written language but had a spoken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Practiced animal sacrifice and at special occasions human sacrifice. (childr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They were fighting a civil war when Francisco Pizarro came so they were conquered easi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486400" y="4191120"/>
            <a:ext cx="2173320" cy="26668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 flipV="1">
            <a:off x="2743200" y="5333760"/>
            <a:ext cx="3505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452960" y="6019200"/>
            <a:ext cx="304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son2011.wikispaces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685800" y="4572000"/>
            <a:ext cx="2057400" cy="14461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172200" y="5181480"/>
            <a:ext cx="228600" cy="228600"/>
          </a:xfrm>
          <a:prstGeom prst="star5">
            <a:avLst/>
          </a:prstGeom>
          <a:solidFill>
            <a:srgbClr val="000000">
              <a:alpha val="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50000">
              <a:srgbClr val="55261c"/>
            </a:gs>
            <a:gs pos="100000">
              <a:srgbClr val="dceb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rnan Cort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s a special Spanish explorer and conquistad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quistadors are Spanish explorers and conquered and claimed land for Spai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 had 500 men and 16 horses to conquer the Azte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Aztecs and their leader Montezuma welcomed Cortez ( thinking he was Quetzacoatl who was their god and was supposed to return on the exact day that Cortez cam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Tenochtitlan is an unusual city because it was built in the middle of a lake on a series of island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tez took Montezuma hostage and killed him in a later figh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panish were driven away but came back in 1521 with reinforcements and conquered the Aztecs capital, Tenochtitlan, therefore driving out the Aztec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y created their own city called Mexico City which today is the capital of Mexi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943600" y="4984920"/>
            <a:ext cx="2590920" cy="18730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431520" y="6490440"/>
            <a:ext cx="19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toryfiles.co.u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rnan Cort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8600" y="1371600"/>
            <a:ext cx="8915400" cy="304812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14400" y="380880"/>
            <a:ext cx="7543800" cy="1067040"/>
          </a:xfrm>
          <a:prstGeom prst="horizontalScrol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ncisco Pizar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 was a Spanish explorer and conquistad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 heard of gold near the Inca Empi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 traveled with 180 men and 27 horses in Peru to conquer the Inca civiliz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Inca civilization was huge and contained twenty million peop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as were easily taken over because they were in a civil war at the tim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Incas were very powerful and had an organized government with paved roads and bridg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ahualpa, the Inca emperor, was kidnapped and held for ransom, after the payment was made he was execut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Incas did not value gold and silver as much as the Spanis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95280" y="4719600"/>
            <a:ext cx="3048120" cy="21384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219320" y="4418640"/>
            <a:ext cx="30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wakenyourcareerpreneur.co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o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did the Spanish explorers and conquistadors change Central and South America forever? (Where do we see the lasting effect of these conquistadors even in 2011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ause of the conquistadors, most of Central and South America speaks Spani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day in the same parts most people are Christian and no longer worship the native go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ot of Aztec, Maya, and Inca culture and traditions have disappeared fore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4495680"/>
            <a:ext cx="2590920" cy="2362320"/>
          </a:xfrm>
          <a:prstGeom prst="smileyFace">
            <a:avLst>
              <a:gd name="adj" fmla="val -4652"/>
            </a:avLst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72200" y="3886200"/>
            <a:ext cx="2133720" cy="144792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553080" y="4038480"/>
            <a:ext cx="129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Good-Bye I hope you learned a l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59280" y="5513400"/>
            <a:ext cx="474840" cy="658800"/>
          </a:xfrm>
          <a:custGeom>
            <a:avLst/>
            <a:gdLst/>
            <a:ahLst/>
            <a:rect l="l" t="t" r="r" b="b"/>
            <a:pathLst>
              <a:path w="214" h="327">
                <a:moveTo>
                  <a:pt x="103" y="0"/>
                </a:moveTo>
                <a:cubicBezTo>
                  <a:pt x="91" y="94"/>
                  <a:pt x="53" y="169"/>
                  <a:pt x="0" y="250"/>
                </a:cubicBezTo>
                <a:cubicBezTo>
                  <a:pt x="8" y="256"/>
                  <a:pt x="16" y="263"/>
                  <a:pt x="25" y="267"/>
                </a:cubicBezTo>
                <a:cubicBezTo>
                  <a:pt x="33" y="271"/>
                  <a:pt x="43" y="271"/>
                  <a:pt x="51" y="275"/>
                </a:cubicBezTo>
                <a:cubicBezTo>
                  <a:pt x="69" y="285"/>
                  <a:pt x="83" y="303"/>
                  <a:pt x="103" y="310"/>
                </a:cubicBezTo>
                <a:cubicBezTo>
                  <a:pt x="120" y="316"/>
                  <a:pt x="154" y="327"/>
                  <a:pt x="154" y="327"/>
                </a:cubicBezTo>
                <a:cubicBezTo>
                  <a:pt x="203" y="310"/>
                  <a:pt x="200" y="269"/>
                  <a:pt x="214" y="224"/>
                </a:cubicBezTo>
                <a:cubicBezTo>
                  <a:pt x="198" y="172"/>
                  <a:pt x="165" y="156"/>
                  <a:pt x="128" y="121"/>
                </a:cubicBezTo>
                <a:cubicBezTo>
                  <a:pt x="125" y="112"/>
                  <a:pt x="126" y="102"/>
                  <a:pt x="120" y="95"/>
                </a:cubicBezTo>
                <a:cubicBezTo>
                  <a:pt x="104" y="74"/>
                  <a:pt x="82" y="87"/>
                  <a:pt x="86" y="52"/>
                </a:cubicBezTo>
                <a:cubicBezTo>
                  <a:pt x="88" y="34"/>
                  <a:pt x="97" y="17"/>
                  <a:pt x="103" y="0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14:16:58Z</dcterms:created>
  <dc:creator>jklib</dc:creator>
  <dc:description/>
  <dc:language>en-US</dc:language>
  <cp:lastModifiedBy>jklib</cp:lastModifiedBy>
  <dcterms:modified xsi:type="dcterms:W3CDTF">2011-11-28T14:33:18Z</dcterms:modified>
  <cp:revision>9</cp:revision>
  <dc:subject/>
  <dc:title>Spanish Conquistadors and pre-Columbian civilizations </dc:title>
</cp:coreProperties>
</file>